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67F-09D3-4B51-A768-BF4C3BB3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1AC-F72F-4577-BD44-3E8FC5C6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978-2BB2-461C-9045-14B8D0F8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5B3-8B03-4382-9529-71CF79F6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494B-0B3D-4900-937B-8E111062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A203-D903-4880-ACAB-580E6276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6AD7-A278-4337-933F-1CCB7395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7FB9-AE02-4045-9221-75819C0C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94D0-3721-4FFA-AE8F-E3D70076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03ED-F279-471C-B504-C10B577C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82A2-F770-4CF7-8F6D-5B32BC35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F98-0594-4819-A3FC-D6A9A3FF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BCEB-7DD1-4B01-A643-8AE058ED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C54B-6C1C-4555-9E05-DA67ED89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24DE-709D-4FC3-892B-2BC00D23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51B8-BACB-43F6-A9ED-B2E46B61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4EFD-DC40-401F-B11E-647A7CE0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5FE-F9EF-4544-8BEB-EFD185CC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AB0-32A0-44BF-85D4-E5A4E5EB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CC9-98F9-427F-B7E9-FFC9165B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B97-AD5D-421B-94C3-35BD84EB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E53-2CFC-4CD5-A45A-A4068493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21E-0CA8-4855-8513-27B4EAD5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994-8EF8-481E-AAEE-A33017D0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CB50-C461-4903-BB15-538027FB1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A881-A953-4297-B891-97D92121F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Finding Circumference</a:t>
            </a:r>
            <a:br>
              <a:rPr sz="48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r 4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5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ndrea Kl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Circum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rcumference is the distance all the way around a cir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quation to find circumference is 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ultiplied by the diameter of the cir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Object 6"/>
          <p:cNvGraphicFramePr/>
          <p:nvPr/>
        </p:nvGraphicFramePr>
        <p:xfrm>
          <a:off x="3657600" y="4267080"/>
          <a:ext cx="213372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267080"/>
                    <a:ext cx="213372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me Terms Defin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said as pie, like the kind you 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3.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 is the radius of a circ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half the distance across a cir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 is the diameter of a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the distance all the way across a cir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two radii adde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Object 1028"/>
          <p:cNvGraphicFramePr/>
          <p:nvPr/>
        </p:nvGraphicFramePr>
        <p:xfrm>
          <a:off x="1828800" y="4952880"/>
          <a:ext cx="175248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952880"/>
                    <a:ext cx="17524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029"/>
          <p:cNvGraphicFramePr/>
          <p:nvPr/>
        </p:nvGraphicFramePr>
        <p:xfrm>
          <a:off x="5029200" y="5029200"/>
          <a:ext cx="167652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5029200"/>
                    <a:ext cx="167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Find Circum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have the radi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 the radius by 2 to get the diam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 this answer by 3.14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have the diamet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 the diameter by 3.14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t’s Try A Probl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diameter or the rad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going to find the rad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radius of this circ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895480" y="3809880"/>
          <a:ext cx="2492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09880"/>
                    <a:ext cx="2492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Continu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us is 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multiply the radius by 2 to get the diame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t, multiply the diameter b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3.1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3048120" y="3352680"/>
          <a:ext cx="350496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352680"/>
                    <a:ext cx="35049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5"/>
          <p:cNvGraphicFramePr/>
          <p:nvPr/>
        </p:nvGraphicFramePr>
        <p:xfrm>
          <a:off x="2133720" y="5257800"/>
          <a:ext cx="5486400" cy="8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5257800"/>
                    <a:ext cx="54864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Solv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ircumference of the circle is 31.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819520" y="2895480"/>
          <a:ext cx="300816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895480"/>
                    <a:ext cx="300816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re’s Another Probl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circumference of this cir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590920" y="2666880"/>
          <a:ext cx="3429000" cy="32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666880"/>
                    <a:ext cx="3429000" cy="32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ameter is 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y the diameter b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3.1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ircumference is 18.8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2743200" y="2590920"/>
          <a:ext cx="3657600" cy="89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365760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"/>
          <p:cNvGraphicFramePr/>
          <p:nvPr/>
        </p:nvGraphicFramePr>
        <p:xfrm>
          <a:off x="1752480" y="4495680"/>
          <a:ext cx="6324840" cy="8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495680"/>
                    <a:ext cx="632484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2:23:54Z</dcterms:created>
  <dc:creator>Registered User</dc:creator>
  <dc:description/>
  <dc:language>en-US</dc:language>
  <cp:lastModifiedBy> </cp:lastModifiedBy>
  <dcterms:modified xsi:type="dcterms:W3CDTF">2010-07-22T13:41:34Z</dcterms:modified>
  <cp:revision>16</cp:revision>
  <dc:subject/>
  <dc:title>Finding Circumference for 5th and 6th Grade</dc:title>
</cp:coreProperties>
</file>